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50E-222F-4071-B692-90A12B4F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385-92F7-4130-B21B-C7C82278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133-C3BF-474C-ADA7-63C27710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36E-418B-4670-B4D5-9F7D216D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AF56-0D97-4181-92AD-690F25A1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39C6-4882-42D6-8FC7-5216C18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8AE-EDF1-40B5-ACB0-89C3E0FC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4703-5842-410A-B85D-8541C550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15DA-A927-4B21-AD88-6AEDEA1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F711-EE33-44FD-9193-D1A1892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CAA2-AD5F-4591-90D3-C37E993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22A-A37F-40BF-BBB2-8582952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3966-E642-4B0A-B762-E7562AC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CBB-3A57-4C07-BDA4-E75F91E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5F0-9025-44FE-8D70-B1CCBD1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338F-2E49-4AD8-A8A9-DD889F82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6E1C-10F7-4968-90B2-225CBE98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7E28-FBF5-4A04-8B6A-DAEF6093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7A79-3798-48F0-B940-7FD3942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79FF-A7E8-4382-BD32-E2A27DA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02E5-35B1-4260-8CE5-DD9C9246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960A-1A65-42FE-8DDD-44A12DC8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888-7E0B-40DD-96DE-DE977277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D717-CD3C-4142-BD37-F7898F8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E059-29CC-4B80-B625-2BA9154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6D5B-07BD-42D1-8AE8-65E664B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583F-9872-41CF-B8C4-BA8B6D3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04B1-BC31-4270-9587-010B7034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F979-F001-44D8-B466-A5C2F9F8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994C-44B8-45E7-873D-666F5EC1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DE5-A773-485A-8A51-AC548488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809-4EB6-461D-93B6-001314E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F6B-3B83-44DA-94B1-A51CA943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F8-1BBE-4DA4-B38D-5098108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89A-42B8-41B0-A493-E10EBA3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446-DD17-48DA-A575-BD6B1B3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B10-8B6A-4567-8182-BD7B3E6E5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4B7-4BAE-43CE-A60B-994C13CF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B2A-0842-468D-A3B8-51B0A5DB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2349360"/>
            <a:ext cx="7143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ускултација срчаних тонова</a:t>
            </a:r>
            <a:br>
              <a:rPr sz="3200"/>
            </a:br>
            <a:br>
              <a:rPr sz="20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врђивање квалитета пулса</a:t>
            </a:r>
            <a:br>
              <a:rPr sz="2800"/>
            </a:b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ре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1640" y="5000400"/>
            <a:ext cx="4321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095600" y="60930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ЖБ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34920" y="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чани тонови се најбоље чују на одређеним тачкама грудног коша где се њихов интензитет најбоље пренос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скултацијске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00160" y="1267920"/>
            <a:ext cx="7143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ви то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митралн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шћ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5. леви међуребарни простор на 1cm медијално од медиоклавикуларне линије, тј. изнад ictus cordis–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рикуспидн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шћ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у нивоу споја 4. десног ребра са стернумом или на бази processus xiphoideus–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руги то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са аортног ушћа – 2. десни међуребарни простор парастернал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са ушћа плућне артерије – 2. леви међуребарни простор уз стерну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Ербова тачк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над споја 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во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бра са стернумом; анализа систолних и дијастолних шумов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-1440" y="-1440"/>
          <a:ext cx="914544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-1440"/>
                    <a:ext cx="914544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Box 3"/>
          <p:cNvSpPr/>
          <p:nvPr/>
        </p:nvSpPr>
        <p:spPr>
          <a:xfrm>
            <a:off x="357120" y="3571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ускултациј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009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иркулациј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врђивање квалитета пулс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ре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71840" y="0"/>
            <a:ext cx="27972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Цирку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60560" y="836280"/>
            <a:ext cx="718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 подмири потребе ткив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ј. транспорт хранљивих материја, уклањање  отпадних продуката, пренос хормона..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државање адекват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х усл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едине у свим ткивним теч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СКА и ПЛУЋНА циркул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ови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ртерије, артериоле, капилари, венуле и в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намика изучава физичке законитости протицања крви кроз крвне судове (укључујући и срце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себно односе између притиска, протока и отп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 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и срца као пум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ме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вних суд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дијаметар,         растегљивост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429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Артеријски пул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57240" y="1214280"/>
            <a:ext cx="70725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еријски пулс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итмичке осцилације зида артерија проузроковане ритмичким осцилацијама притиска у тим артер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улсне осцилације артеријског зида започињу у почетном делу аор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 се притисак шири даљ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зрокује осцилац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алних крвних судова (пулс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бог еластичности и  растегљивости 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дова притисак се не преноси тренутно на капил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ина ширења осцил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орта 3-5 m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е артерије 7-1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ње артерије 15-35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560920" y="0"/>
            <a:ext cx="35830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Content Placeholder 2"/>
          <p:cNvSpPr/>
          <p:nvPr/>
        </p:nvSpPr>
        <p:spPr>
          <a:xfrm>
            <a:off x="0" y="0"/>
            <a:ext cx="594036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лсне осцилације притиска у артеријама могу се изуча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влачењем шупље игле у артер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 ритмичке промене се региструју помоћу трансдјус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РЕКТНО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алпацијом артерија на различитим (типичним) мести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rotis communis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gonum caroticum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Brachiali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lcus bicipitalis medi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 средини надлакти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Radialis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lcus a.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Femoralis – испо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g.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gui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средини измеђ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inae ilia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e и симфи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Poplitea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ssa popli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Tibialis posterior – на средини измеђ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olus medialis tibi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Ахилове те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Dorsalis pedis – на гребену сто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14320" y="213840"/>
            <a:ext cx="5429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олошки опсег пулса 60-100 /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60 – брад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00 – тах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валитети пул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еквенца (pulsus rarus / frequen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там (p. irregularis / regu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личина (p. magnus / parv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рдоћа (p. durus / mol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ина (p. celer / tard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инички значај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5214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2680" y="142920"/>
            <a:ext cx="635796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Артеријски крвни притисак (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85600" y="785880"/>
            <a:ext cx="7234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еријски крвни притисак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ила којом крв делује на јединицу површине зида артерије (mmHg или 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 се креће кроз систем крвних судова под утицајем притиска којим срце као пумпа истискује крв у циркул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тисак је највећи у аорти и опада до артерио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илара, док је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нама ск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дна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негатив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главна фактор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 утичу на вред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ртериј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в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чка активност комо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,чији је учинак МИНУТНИ ВОЛУМЕН СРЦА (M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НИ ОТПОР протицању кр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), нарочито отп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ерио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на је нормална количина крви у циркулацијском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50920" y="260280"/>
            <a:ext cx="73058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одређивање MV потребна 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пособност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количина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одређивање нормалног PO потребни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ан нервни вазоконстрикторни тонус 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вискозност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ена било ког фактора доводи д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ена ТА (хипотензија / хипертензија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л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дност крвног притиска која настаје у артеријам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истоле, приликом избацивања ударног волумена из леве коморе у циркулацију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редност притиска при којој се појављује први тон над брахијалном артеријом током мерења крвног прит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л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редност крвног притиска у артеријама током дијастоле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редност притиска при којој ишчезавају тонови над брахијалном артер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ње дијастолног притиска 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век последица повећања 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57120" y="1143000"/>
          <a:ext cx="8215560" cy="455616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олни притисак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столни притисак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лан 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нормалан 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в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ћ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рт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бела 1. Класификација крвног притиска за одрасле особе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 18 година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тарије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5960" y="357120"/>
            <a:ext cx="7143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диоваскуларни систем човека чине срце и крвни судови (артерије, артериоле, капилари, венуле и ве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це је орган (пумпа) чија је улога да пумпа крв у артерије, и даљ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не суд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две пум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с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, десног срца (дес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умпа крв у плућа (мали крв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в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, левог срца (ле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умпа крв кроз периферне органе (велики крв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томски, срчани мишић (mi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 је састављен од мишићних ћел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ља = фиброзна мембрана (per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нутра = слој ендотелних ћелија (end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5572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рење артеријског прит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рек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ингмоманометар са манжет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алпациони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Аускултациони метод- Коротковљеви тонови (1905.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14320" y="157176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ктично извођење веж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7240" y="1285560"/>
            <a:ext cx="70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ункција срца у физиолошком и клиничком смислу се може посматрати са неколико аспек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ектричне активности срца и провод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рча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алвуларног апарат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онарне цир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гулације срчаног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1785960"/>
            <a:ext cx="5952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ђа с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ир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л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иовентри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рикуспидни (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итрал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7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0719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71440" y="428400"/>
            <a:ext cx="6715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ога залиста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иовентри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(AV) залисци спречавају враћање крви за време систоле из комора у прет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илунарни залисци спречавају враћање крви за време дијастоле из аорте и плућне артерије у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лисци се пасивно отварају и затвар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вар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отварање залистака се одв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ма градијенту притис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ога папиларних мишић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уку AV залиске у коморе за време систоле ком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залисци н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виш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инира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упљи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ткомо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43080" y="285840"/>
            <a:ext cx="6786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и циклус се дел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од СИСТОЛЕ (контракција комора, избацивање крви у плу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артер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аор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од ДИЈАСТОЛЕ (релаксација комора, пуњење комора крвљу из претком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3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857240" y="428760"/>
            <a:ext cx="70725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арање срчаних залистака је бешумно, док 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варање праћено звучним феноме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ибрације затегнутих залистака одмах по затварањ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једно са вибрацијама околне крви, зидова срца и великих крвних судова око ср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преносе на површину грудног коша и могу да се региструју стетоск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луш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нендоскопи (слушалице, стетоскоп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9280" y="260280"/>
            <a:ext cx="7000920" cy="63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сте срчаних 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ви срчани т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оклапа се са артеријским пулсом; настаје приликом затварања АV залистака (турбулентан ток крви изазива вибрације); траје око 0,14 секунд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траје дуже и дубљи је од дру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 срчани тон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дица наглог затварања семилунарних залистака; траје око 0,11 секунд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траје краће и виши је од дру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ћи срчани тон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некада се на почетку средње трећине дијастоле чује слаб трећи тон који личи на добов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рв улази у делимично напуњену комору – фаза дијастаз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фреквенца је мала па га ухом не можемо ч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тврти срчани то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атри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с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рчани тон) – настаје пре првог тона у фази систоле преткомора, када се систолом преткомора уб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је још 30% крви у 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User</cp:lastModifiedBy>
  <dcterms:modified xsi:type="dcterms:W3CDTF">2014-10-01T14:42:29Z</dcterms:modified>
  <cp:revision>52</cp:revision>
  <dc:subject/>
  <dc:title>Slide 1</dc:title>
</cp:coreProperties>
</file>